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201D-7660-4019-BF6F-1D91B211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DF39-76FC-4C98-B8B7-28EFC208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E558-67AF-47EF-90B2-13839148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F6B9-9AD4-4961-A85A-7FDE4CF3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C296-7AFE-43A5-82E5-08336E7A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1448-AB8B-4AFC-83B4-232D3DC5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382D-CC61-4813-92A9-528179A2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834B-4EB0-4BD1-A657-378A4990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1979-7F6D-4B1C-A9BB-991417E2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6E63-5D15-41BE-8137-903646D4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EC67-3525-4BEC-AD99-F116878A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5122-F3BF-4AEA-8C81-38FC8D02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7C93-CDFE-441C-BAA6-952046C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D925-1A76-4A45-A0A6-2BE382F2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E1BD-3FC0-4365-9A97-56D4EABA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DF0E-1714-42EA-9BA5-B1990682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9985-2138-42E0-8B03-CE0D313D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11FC-9028-4DE5-8D56-4714EA1C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CE707-A922-46E7-B742-F821C592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3A3E-0F27-4DCA-AD7B-017713A0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9335-422A-455E-A499-FFC7ABD5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A2B8-7EA2-4EA4-9507-EF5B289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168D-0F32-4656-A7BD-FED3AE9D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DB4C-FE19-4B2A-B8ED-2DF7DBE4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DFD4-AA7C-409C-A023-87ED206AE8C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ACD4-F408-4D0C-8AA8-35FACEB87F2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9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Хлопа, хлопа. Кой е там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ака, чака, стоящ с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ин царски пътник им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защо там да стои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уше моя, стани скор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ратата отво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13940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лопа, хлопа. Кой е там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ака, чака Господ са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с търпение още хлоп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ранената рък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 нозете Си пробит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ака пред твойта вра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89172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лопа, хлопа. Кой е там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ака, чака още та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ка с тебе да вечер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ът твой, душе мо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стани и скоро с радос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вори Му ти вра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1-03-19T10:00:34Z</dcterms:modified>
  <cp:revision>190</cp:revision>
  <dc:subject/>
  <dc:title>Slide 1</dc:title>
</cp:coreProperties>
</file>